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67C-806B-4C02-8286-DC3A2EBF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B78-DA29-4374-8454-C29DEF7C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5CE-BCC5-4F58-887B-07A27FEA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543-FFBC-43A8-A2F0-90BA86FE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C67F-22E3-4495-AB8A-D0867A1E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EF18-0CCC-4BB8-8683-A5F2DAE9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FA95-E074-4A7F-8CFF-11C66BB6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CB70-5458-4CDF-835A-907FE976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CDE0-F54F-4C95-9B6F-2AFD9EB6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983E-596B-4D20-8ACC-459BFF01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8C90-EE19-4E4D-95B3-51F107C4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276-D8F1-42AF-9E4A-4F3AD465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934C-6B9A-468D-AE76-4E923AAF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48DF-FCEA-48F1-8478-08D7A36D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CC63-9DA5-45A2-AFB0-190449AC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2AEB-B1DF-408D-B409-3BDC922D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D2AB-9920-4172-8C1A-0EBCA875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5C685-2431-4E30-A383-C4722EA6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E8D0C-AB2B-43F1-A311-030D662A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2D2BD-DAA0-4840-8EF4-1A3E4DCF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4D30B-E19D-406E-B9FE-9DF0E9D6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B28C9-883D-4D04-9C3A-2987252A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A93-324A-4710-A87D-6B0E6A37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3CB7B-86F2-4857-8F75-E1D07927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66036-3C8B-42A7-BA2E-84018FD4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B1C24-4B8C-49C4-964B-F035801E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317F1-6825-4F30-8471-040C2A83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A99CA-F38E-4CA7-95DA-ED27BBC0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D2481-E8C7-4DF5-9A3D-58C71474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5D2C8-66A9-404D-94BA-477E775D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1422E-874C-48D1-9735-629AD656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C2B9-E0C9-46AD-809E-EEEC25D7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1CE9F-F447-4CC3-9BA2-B46917DD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5FE-6085-4A6F-819D-F3FFE64A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8D73-D7D7-4875-B69E-59F613F7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812E6-2448-449D-869E-B6571928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38D9-31AC-4E7F-8669-AE148204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518D7-85EE-4001-A43C-BA5F4081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AE136-57E7-48CA-8F09-91E63EA3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D66F-B48A-452C-A8DD-3EAF8DF9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F6F61-3792-464B-B29F-DACC927E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F4D22-9632-40A9-B0BE-B9A2DB5B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BC5B2-EECB-459B-984E-D4FCAA46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44D-3987-477D-A6EB-88E66073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557-5834-4B84-9A7D-4CAE8A40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BCC-65C5-47A1-924F-9768D721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9AB-5307-4C14-93AB-0C09C869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177-0CEF-44E4-99E2-AD9E8E48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593C-050D-4680-8B5D-0E16416B5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BB31-55E3-4F58-83EB-1513335A45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99E6-4E64-4B23-901D-B11B45704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1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10EB-BE78-432D-B8E3-FD5C8EF501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6920" y="4723920"/>
            <a:ext cx="5832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Зачем нужны дроби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16000" y="620640"/>
            <a:ext cx="595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Как возникли                   дроби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7" descr="school06-06"/>
          <p:cNvPicPr/>
          <p:nvPr/>
        </p:nvPicPr>
        <p:blipFill>
          <a:blip r:embed="rId1"/>
          <a:stretch/>
        </p:blipFill>
        <p:spPr>
          <a:xfrm rot="16642200">
            <a:off x="1166040" y="1362600"/>
            <a:ext cx="22748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ahoma"/>
              </a:rPr>
              <a:t>Вывод!!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Людям разных профессий необходимо уметь решать задачи на дроби, знать правила сложения и вычитания, умножения и деления дроб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5" descr="school08-02"/>
          <p:cNvPicPr/>
          <p:nvPr/>
        </p:nvPicPr>
        <p:blipFill>
          <a:blip r:embed="rId1"/>
          <a:stretch/>
        </p:blipFill>
        <p:spPr>
          <a:xfrm>
            <a:off x="5580000" y="4869000"/>
            <a:ext cx="331308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6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6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Спасибо за внимание!!!</a:t>
            </a:r>
            <a:br>
              <a:rPr sz="8800"/>
            </a:b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6" descr="school02-28"/>
          <p:cNvPicPr/>
          <p:nvPr/>
        </p:nvPicPr>
        <p:blipFill>
          <a:blip r:embed="rId1"/>
          <a:stretch/>
        </p:blipFill>
        <p:spPr>
          <a:xfrm>
            <a:off x="2843280" y="3884760"/>
            <a:ext cx="331308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ак возникли дроби</a:t>
            </a: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school10-04"/>
          <p:cNvPicPr/>
          <p:nvPr/>
        </p:nvPicPr>
        <p:blipFill>
          <a:blip r:embed="rId1"/>
          <a:stretch/>
        </p:blipFill>
        <p:spPr>
          <a:xfrm>
            <a:off x="6516720" y="4076640"/>
            <a:ext cx="237492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 каких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источниках впервые упоминается о дробях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1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ипетский математический кожаный сви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101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сковский математический папирус 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ина составляет 5,40 м, а его ширина от 4 до 7 см. (Он был составлен около 1850 до н. э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101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ревянная табличка Ахми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101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пирус Ринда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иток длиной 5,25 м. и шириной 33 см. (ок. 1650 до н. э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роби, какие они в Древнем Вавилон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700360" y="2420640"/>
            <a:ext cx="61927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Шестидесятеричны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обозначались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, время 3 ч 17 мин. 28 с можно записать и так: 3,17'28" ч (читается 3 целых, 17 шестидесятых 28 три тысячи шестисотых часа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school02-04"/>
          <p:cNvPicPr/>
          <p:nvPr/>
        </p:nvPicPr>
        <p:blipFill>
          <a:blip r:embed="rId1"/>
          <a:stretch/>
        </p:blipFill>
        <p:spPr>
          <a:xfrm>
            <a:off x="179280" y="2852640"/>
            <a:ext cx="25210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тношение к дробям в Древней Греци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читали, что дроби можно использовать только в логистике. Впервые встречается общее понятие дроби вида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m/n.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5" descr="school10-04"/>
          <p:cNvPicPr/>
          <p:nvPr/>
        </p:nvPicPr>
        <p:blipFill>
          <a:blip r:embed="rId1"/>
          <a:stretch/>
        </p:blipFill>
        <p:spPr>
          <a:xfrm>
            <a:off x="6012000" y="1844640"/>
            <a:ext cx="3132000" cy="47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Где стали записывать дробь с помощью числителя и знаменател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598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ременную систему записи дробей с числителем и знаменателем создали в Индии. Только там писали знаменатель сверху, а числитель - снизу, и не писали дробной черты. А записывать дроби в точности, как сейчас, стали араб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school06-17"/>
          <p:cNvPicPr/>
          <p:nvPr/>
        </p:nvPicPr>
        <p:blipFill>
          <a:blip r:embed="rId1"/>
          <a:stretch/>
        </p:blipFill>
        <p:spPr>
          <a:xfrm>
            <a:off x="6588000" y="2924280"/>
            <a:ext cx="237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570800" cy="32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ahoma"/>
              </a:rPr>
              <a:t>Зачем нужны дроби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school10-06"/>
          <p:cNvPicPr/>
          <p:nvPr/>
        </p:nvPicPr>
        <p:blipFill>
          <a:blip r:embed="rId1"/>
          <a:stretch/>
        </p:blipFill>
        <p:spPr>
          <a:xfrm>
            <a:off x="6696000" y="3716280"/>
            <a:ext cx="2448000" cy="2857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school08-01"/>
          <p:cNvPicPr/>
          <p:nvPr/>
        </p:nvPicPr>
        <p:blipFill>
          <a:blip r:embed="rId2"/>
          <a:stretch/>
        </p:blipFill>
        <p:spPr>
          <a:xfrm>
            <a:off x="179280" y="4653000"/>
            <a:ext cx="280836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Tahoma"/>
              </a:rPr>
              <a:t>Задачи, решаемые родителями в своей профессиональной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дитель – дальнобойщик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отправился в рейс из пункта А в пункт В, расстояние между которыми 369 км. В 13 ч 30 мин я проехал девятую часть пути. С какой скоростью мне нужно ехать, чтобы прибыть в фирму до её закрытия (закрывается в 18 ч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6" descr="MC900295709[1]"/>
          <p:cNvPicPr/>
          <p:nvPr/>
        </p:nvPicPr>
        <p:blipFill>
          <a:blip r:embed="rId1"/>
          <a:stretch/>
        </p:blipFill>
        <p:spPr>
          <a:xfrm>
            <a:off x="6921360" y="981000"/>
            <a:ext cx="2222640" cy="144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Электрик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1810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лина провода 12 м. На ремонт стальной лампы израсходовал ¼ этого куска. Хватит ли мне оставшегося провода, чтобы заменить проводку в комнате размером 3х4 (замену нужно произвести по двум смежным стенам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6" descr="MC900240685[1]"/>
          <p:cNvPicPr/>
          <p:nvPr/>
        </p:nvPicPr>
        <p:blipFill>
          <a:blip r:embed="rId1"/>
          <a:stretch/>
        </p:blipFill>
        <p:spPr>
          <a:xfrm>
            <a:off x="6696000" y="2708280"/>
            <a:ext cx="244800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4:57:13Z</dcterms:created>
  <dc:creator>Admin</dc:creator>
  <dc:description/>
  <dc:language>en-US</dc:language>
  <cp:lastModifiedBy>25009</cp:lastModifiedBy>
  <dcterms:modified xsi:type="dcterms:W3CDTF">2010-06-07T10:47:53Z</dcterms:modified>
  <cp:revision>13</cp:revision>
  <dc:subject/>
  <dc:title>Зачем нужны дроби?</dc:title>
</cp:coreProperties>
</file>